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9B11-6F8F-4DF1-83E2-69437E9AB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E4718-3B5D-4E80-964F-A61B16783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679FB-D858-4B0C-B1CB-BF547BEE2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AC7C5-541C-45B5-88A2-CAA890142E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0A9E5-3D9C-4043-84DC-648D73CF5A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ED9B2-E956-4525-BC4F-FC9AE38399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A18BC-BFCF-4717-B050-5AC301097E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42EE0B-040B-4576-B98A-05AAAC732F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1C8519-D71C-41F0-B0A5-2AB2A5FA84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FBD03-5E3C-41D5-A185-9230BF51C9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0C0B5-FF09-4D81-9101-F85B496715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BD46-FDD0-4550-A803-5AE5AEC96D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52230-C492-43E6-A760-341AB7E113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BB4B9-EEA3-46FF-B9C7-A438989EF0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1FF91-4EC6-44F0-89C8-3BE7FEC7DB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1C794-61D4-49E0-AF1B-EC44631A4F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8ECE9-7C12-4CDB-B0A3-9050EB712D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4EB27-D66C-471C-9122-57342E09D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2CB7-FA0F-4109-86F5-6F9C3716E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D7AA6-77E1-45AA-962C-71A1370CC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774F3-4342-441B-A599-66BE2D7B7A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4D90-9494-4F9C-9665-44B0CDC7F6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4C1BD-8EFE-4432-9F36-D45372ECD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1ED88-05F4-4632-92C3-69CF8EC4D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ECD689C-B7A4-4523-AEB8-3C236AAA0CF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69B9D3D-1D6D-40AC-9A78-44CA61CB8148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219640" y="301680"/>
            <a:ext cx="35672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57200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07A41717-CDD2-4DA1-BE69-2AD85739D5F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47D764D-3AC2-42C2-A21D-B272981E6E46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D4A1-7775-4F85-B2A6-70D92D5E539F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7-07-03T09:03:33Z</dcterms:modified>
  <cp:revision>336</cp:revision>
  <dc:subject/>
  <dc:title>No Slide Title</dc:title>
</cp:coreProperties>
</file>